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jpeg" ContentType="image/jpeg"/>
  <Override PartName="/ppt/media/image3.jpeg" ContentType="image/jpeg"/>
  <Override PartName="/ppt/media/image30.jpeg" ContentType="image/jpeg"/>
  <Override PartName="/ppt/media/image4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13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media/image22.wmf" ContentType="image/x-wmf"/>
  <Override PartName="/ppt/media/image19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FF1-059D-4C89-A290-2EDC17C9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A39-94CE-469F-86A6-07B50E9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A06-FF7D-4BBB-8498-A74895B3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0F6-E96A-415A-B8C5-DE3C3EF6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7ABA-5570-4597-A9A2-6930AB1A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665a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A63F-3BE1-4469-9277-6DED7EF0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9A96-21F1-4C70-BD5C-22161B0D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6FC6-268A-4944-AA39-BA5D0D9D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AD5C-4269-474D-8FA5-EF07DE01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665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AB93-9A95-4C28-B988-7AC9E4B3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7CCC-53F9-4632-B57B-A685BF0A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665a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143-EFD4-426B-BB2E-25793C9D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B14B-8E9E-4C2E-8387-6B402A4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CF7-16AD-4E84-9E45-77F11A3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F044-02DF-4F38-8A4B-E12C068E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D0A4-C59D-4AC7-B4F4-814837AF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484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DD57-16E6-4A10-A40F-A8D25FD9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08D-AFA8-4C35-82C0-DEC1BE4D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A40-C5AE-4C25-B039-97AB18A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BA3-8D18-434D-9C4B-C1ED6564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665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5CB-39CF-42A9-B297-BB603F1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830-5D33-40E3-BC4F-B44C8E44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84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0D2-2B52-4C22-BA41-4B92F29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484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88A-8224-4BFD-9CF6-BE199E2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C3C2-732B-4A0E-98EB-F1E8E8C4D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996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1C33-CB48-4D7D-869F-2F3E55729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65ac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665a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-2.cs.cmu.edu/~cmucam/Pictures/camboard.jpg" TargetMode="External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74320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3200" spc="-1" strike="noStrike">
                <a:solidFill>
                  <a:srgbClr val="000048"/>
                </a:solidFill>
                <a:latin typeface="Impact"/>
              </a:rPr>
              <a:t>Imaging Robot for Identification and Surveillance</a:t>
            </a:r>
            <a:br>
              <a:rPr sz="7200"/>
            </a:br>
            <a:r>
              <a:rPr b="0" lang="en-US" sz="7200" spc="-1" strike="noStrike">
                <a:solidFill>
                  <a:srgbClr val="000048"/>
                </a:solidFill>
                <a:latin typeface="Impact"/>
              </a:rPr>
              <a:t> I.R.I.S.</a:t>
            </a:r>
            <a:endParaRPr b="0" lang="en-US" sz="72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5105160"/>
            <a:ext cx="6019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65ac"/>
                </a:solidFill>
                <a:latin typeface="Arial"/>
              </a:rPr>
              <a:t>Brian Campbell, Katharine McCoy</a:t>
            </a:r>
            <a:endParaRPr b="1" i="1" lang="en-US" sz="2400" spc="-1" strike="noStrike">
              <a:solidFill>
                <a:srgbClr val="0665a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65ac"/>
                </a:solidFill>
                <a:latin typeface="Arial"/>
              </a:rPr>
              <a:t>Allis Kennedy, Bill Schroder</a:t>
            </a:r>
            <a:endParaRPr b="1" i="1" lang="en-US" sz="2400" spc="-1" strike="noStrike">
              <a:solidFill>
                <a:srgbClr val="0665a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6019920"/>
            <a:ext cx="6019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632448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665ac"/>
                </a:solidFill>
                <a:latin typeface="Arial"/>
              </a:rPr>
              <a:t>Sponsor: Dr Piccirillo, IE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7132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ubject keeps working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BasicX records data</a:t>
            </a:r>
            <a:endParaRPr b="1" i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How many times each zone was visited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How much time was spent per zone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Total time spent in secure area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equence of zones visited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Arial"/>
              </a:rPr>
              <a:t>Record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ubject finishes and hangs up ‘lab coat’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BasicX recognizes subject leaving</a:t>
            </a:r>
            <a:endParaRPr b="1" i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8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How many times each zone was visited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LCD, SP03 and serial output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How much time was spent per zone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LCD, SP03 and serial output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Total time spent in secure area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LCD, SP03 and serial output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equence of zones visited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LCD and serial output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Arial"/>
              </a:rPr>
              <a:t>Display Data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90920" y="1447920"/>
            <a:ext cx="419076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581280"/>
            <a:ext cx="38862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90920" y="3581280"/>
            <a:ext cx="380880" cy="20574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590920" y="1447920"/>
            <a:ext cx="304560" cy="2133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276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00400" y="2437920"/>
            <a:ext cx="0" cy="838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90920" y="24379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971800" y="1447920"/>
            <a:ext cx="1447920" cy="2133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895480" y="1676160"/>
            <a:ext cx="3886200" cy="19047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581280"/>
            <a:ext cx="1447920" cy="20574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3581280"/>
            <a:ext cx="3886200" cy="18288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2481120"/>
            <a:ext cx="533520" cy="53352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2666880" y="3005280"/>
            <a:ext cx="411120" cy="228600"/>
            <a:chOff x="2666880" y="3005280"/>
            <a:chExt cx="411120" cy="228600"/>
          </a:xfrm>
        </p:grpSpPr>
        <p:sp>
          <p:nvSpPr>
            <p:cNvPr id="138" name=""/>
            <p:cNvSpPr/>
            <p:nvPr/>
          </p:nvSpPr>
          <p:spPr>
            <a:xfrm>
              <a:off x="2666880" y="3005280"/>
              <a:ext cx="411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720880" y="3038760"/>
              <a:ext cx="282600" cy="173160"/>
              <a:chOff x="2720880" y="3038760"/>
              <a:chExt cx="282600" cy="173160"/>
            </a:xfrm>
          </p:grpSpPr>
          <p:sp>
            <p:nvSpPr>
              <p:cNvPr id="140" name=""/>
              <p:cNvSpPr/>
              <p:nvPr/>
            </p:nvSpPr>
            <p:spPr>
              <a:xfrm>
                <a:off x="2720880" y="3038760"/>
                <a:ext cx="152280" cy="76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50760" y="3070440"/>
                <a:ext cx="152640" cy="7632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95400" y="3092760"/>
                <a:ext cx="152280" cy="76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50840" y="3135600"/>
                <a:ext cx="15264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637000" y="3352680"/>
            <a:ext cx="411120" cy="380880"/>
            <a:chOff x="2637000" y="3352680"/>
            <a:chExt cx="411120" cy="380880"/>
          </a:xfrm>
        </p:grpSpPr>
        <p:sp>
          <p:nvSpPr>
            <p:cNvPr id="145" name=""/>
            <p:cNvSpPr/>
            <p:nvPr/>
          </p:nvSpPr>
          <p:spPr>
            <a:xfrm>
              <a:off x="2637000" y="3352680"/>
              <a:ext cx="411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668680" y="3428640"/>
              <a:ext cx="152640" cy="255600"/>
              <a:chOff x="2668680" y="3428640"/>
              <a:chExt cx="152640" cy="255600"/>
            </a:xfrm>
          </p:grpSpPr>
          <p:sp>
            <p:nvSpPr>
              <p:cNvPr id="147" name=""/>
              <p:cNvSpPr/>
              <p:nvPr/>
            </p:nvSpPr>
            <p:spPr>
              <a:xfrm>
                <a:off x="2668680" y="3428640"/>
                <a:ext cx="152640" cy="255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02160" y="3582720"/>
                <a:ext cx="7596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91000" y="3439800"/>
                <a:ext cx="92160" cy="46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91000" y="3547800"/>
                <a:ext cx="36360" cy="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65520" y="3547800"/>
                <a:ext cx="36720" cy="3636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62280" y="3504960"/>
                <a:ext cx="36720" cy="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684520" y="3501720"/>
                <a:ext cx="36720" cy="36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854440" y="3449520"/>
              <a:ext cx="152280" cy="185760"/>
              <a:chOff x="2854440" y="3449520"/>
              <a:chExt cx="152280" cy="185760"/>
            </a:xfrm>
          </p:grpSpPr>
          <p:sp>
            <p:nvSpPr>
              <p:cNvPr id="155" name=""/>
              <p:cNvSpPr/>
              <p:nvPr/>
            </p:nvSpPr>
            <p:spPr>
              <a:xfrm>
                <a:off x="2854440" y="3482640"/>
                <a:ext cx="15228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86120" y="3449520"/>
                <a:ext cx="76320" cy="7596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3125520" y="14428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5720" y="14428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05440" y="25099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5440" y="41101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5720" y="52531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5520" y="52531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776680" y="1752480"/>
          <a:ext cx="27432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6680" y="1752480"/>
                    <a:ext cx="2743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787480" y="1752480"/>
          <a:ext cx="271800" cy="6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7480" y="1752480"/>
                    <a:ext cx="2718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232080" y="1784520"/>
          <a:ext cx="54000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32080" y="1784520"/>
                    <a:ext cx="5400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152E-006 L 0.17916 -4.1152E-006 E">
                                      <p:cBhvr>
                                        <p:cTn id="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path" presetID="4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7916 3.62248E-006 L 0.21666 3.62248E-006 C 0.23333 3.62248E-006 0.25416 -0.02776 0.25416 -0.05043 L 0.25416 -0.10063 E">
                                      <p:cBhvr>
                                        <p:cTn id="1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8.33333E-007 -1.13347E-006 C 0.00712 0.00324 0.01493 0.003 0.02239 0.00462 C 0.03107 0.00416 0.03958 0.00393 0.04826 0.003 C 0.05416 0.00231 0.05816 -0.00255 0.06354 -0.00463 C 0.07135 -0.01203 0.08264 -0.01527 0.09184 -0.01874 C 0.09878 -0.02522 0.10729 -0.02707 0.11527 -0.02984 C 0.12361 -0.03285 0.13159 -0.03701 0.1401 -0.03933 C 0.15555 -0.03817 0.16059 -0.04187 0.17066 -0.03285 C 0.175 -0.02429 0.17639 -0.01897 0.17882 -0.00949 C 0.17847 -0.00787 0.17847 -0.00579 0.1776 -0.00463 C 0.17673 -0.00347 0.17517 -0.00393 0.17413 -0.00324 C 0.16909 -1.13346999999981E-006 0.16545 0.00532 0.16007 0.00786 C 0.15555 0.01365 0.15017 0.01642 0.14479 0.02035 C 0.13889 0.02475 0.13264 0.03076 0.12708 0.03608 C 0.12152 0.04649 0.12812 0.03608 0.12118 0.04233 C 0.11649 0.04649 0.11927 0.04719 0.11406 0.05019 C 0.11041 0.05228 0.10521 0.05343 0.10121 0.05482 C 0.09757 0.05829 0.09566 0.06245 0.09184 0.06569 C 0.08906 0.07703 0.09288 0.06384 0.08715 0.07518 C 0.08316 0.08304 0.08142 0.09137 0.07534 0.09715 C 0.07257 0.10247 0.07118 0.10617 0.06701 0.10964 C 0.06441 0.1152 0.06284 0.11867 0.05885 0.12214 C 0.05087 0.1381 0.04132 0.15244 0.0342 0.16932 C 0.0283 0.18344 0.02552 0.1994 0.01892 0.21304 C 0.01545 0.23594 0.0085 0.25815 0.00347 0.28059 C 0.00121 0.29077 -0.00035 0.30164 -0.00469 0.31043 C -0.0066 0.32523 -0.01198 0.33611 -0.0165 0.34952 C -0.01997 0.3597 -0.02361 0.37011 -0.0283 0.37936 C -0.02952 0.38492 -0.03056 0.38862 -0.03299 0.39347 C -0.0342 0.39903 -0.03525 0.40273 -0.03768 0.40758 C -0.03959 0.41638 -0.03837 0.41059 -0.04115 0.4247 C -0.04184 0.42794 -0.04358 0.43419 -0.04358 0.43419 C -0.04497 0.44714 -0.04375 0.4402 -0.04705 0.45292 C -0.0474 0.45454 -0.04827 0.45778 -0.04827 0.45778 C -0.04792 0.4631 -0.04913 0.47467 -0.04462 0.47953 C -0.04254 0.48161 -0.04011 0.483 -0.03768 0.48438 C -0.03542 0.48577 -0.03056 0.48739 -0.03056 0.48739 C -0.01198 0.48508 0.00121 0.47374 0.01771 0.46403 C 0.03472 0.45408 0.05468 0.45177 0.07291 0.44992 C 0.096 0.45084 0.10642 0.45223 0.12587 0.45616 C 0.13489 0.45986 0.13055 0.45848 0.13889 0.46079 C 0.1467 0.46033 0.15503 0.46264 0.16232 0.45917 C 0.16458 0.45801 0.1618 0.45292 0.16128 0.44992 C 0.15955 0.43997 0.1559 0.43257 0.14826 0.42956 C 0.14705 0.4284 0.146 0.42702 0.14479 0.42632 C 0.14253 0.42493 0.13767 0.42331 0.13767 0.42331 C 0.13264 0.41846 0.12725 0.4173 0.12118 0.41545 C 0.1118 0.41614 0.0993 0.41661 0.08941 0.41846 C 0.07135 0.42193 0.05486 0.43534 0.03646 0.43881 C 0.02604 0.44367 0.01527 0.44714 0.00468 0.4513 C 0.00347 0.45246 0.00243 0.45385 0.00121 0.45454 C -0.00104 0.45593 -0.00591 0.45778 -0.00591 0.45778 C -0.0066 0.4594 -0.00695 0.46148 -0.00816 0.46241 C -0.01025 0.46403 -0.01528 0.46542 -0.01528 0.46542 C -0.0165 0.47027 -0.01997 0.47906 -0.0165 0.48438 C -0.01476 0.48693 -0.00938 0.48739 -0.00938 0.48739 C -8.33332999999534E-007 0.48693 0.00955 0.48693 0.01892 0.486 C 0.02326 0.48554 0.02743 0.48184 0.03177 0.48115 C 0.03611 0.48045 0.04548 0.47999 0.05069 0.47814 C 0.07031 0.47097 0.0901 0.46195 0.10937 0.45292 C 0.11302 0.4513 0.11649 0.44737 0.11996 0.44506 C 0.12673 0.44066 0.13437 0.43881 0.14114 0.43419 C 0.14236 0.43326 0.1434 0.43164 0.14479 0.43095 C 0.15069 0.42817 0.14948 0.43118 0.15416 0.42794 C 0.16198 0.42239 0.1533 0.42632 0.16128 0.42331 C 0.16337 0.42123 0.16614 0.42054 0.16823 0.41846 C 0.16927 0.4173 0.16962 0.41499 0.17066 0.41383 C 0.1717 0.41291 0.17309 0.41291 0.17413 0.41221 C 0.17656 0.41036 0.17882 0.40805 0.18125 0.40597 C 0.18246 0.40481 0.18472 0.40273 0.18472 0.40273 C 0.1875 0.39741 0.18941 0.39394 0.19409 0.39186 C 0.1967 0.38191 0.19323 0.39162 0.19878 0.38561 C 0.19982 0.38445 0.20017 0.38214 0.20121 0.38098 C 0.20312 0.3789 0.20937 0.37566 0.2118 0.37451 C 0.21771 0.36664 0.22864 0.35924 0.23646 0.35415 C 0.24149 0.35091 0.24531 0.34559 0.25069 0.34328 C 0.25868 0.33611 0.25503 0.33819 0.26128 0.33541 C 0.26337 0.33333 0.26614 0.33287 0.26823 0.33079 C 0.27569 0.32292 0.26562 0.32801 0.27413 0.32454 C 0.27795 0.32107 0.28298 0.31367 0.28715 0.31182 C 0.29323 0.29933 0.28524 0.31367 0.29288 0.30557 C 0.30052 0.29748 0.2901 0.30349 0.29878 0.29933 C 0.3 0.29771 0.30104 0.29586 0.30243 0.2947 C 0.30347 0.29378 0.30486 0.29401 0.3059 0.29308 C 0.30694 0.29192 0.30712 0.28938 0.30833 0.28845 C 0.31041 0.2866 0.31302 0.28637 0.31527 0.28522 C 0.31927 0.28337 0.32587 0.27596 0.32587 0.27596 C 0.32673 0.27434 0.32725 0.27249 0.3283 0.27111 C 0.32934 0.26972 0.3309 0.26949 0.33177 0.2681 C 0.33333 0.26532 0.3342 0.26185 0.33524 0.25861 C 0.33628 0.25561 0.3368 0.25237 0.33767 0.24913 C 0.33802 0.24751 0.33889 0.2445 0.33889 0.2445 C 0.33802 0.23248 0.33993 0.22554 0.33298 0.21952 C 0.33125 0.21281 0.32812 0.20796 0.32708 0.20055 C 0.32517 0.18644 0.32205 0.17603 0.31406 0.16609 C 0.31128 0.15406 0.31545 0.16794 0.30937 0.15984 C 0.30607 0.15545 0.31059 0.15221 0.30243 0.14897 C 0.29097 0.1337 0.26962 0.13555 0.25538 0.13486 C 0.24687 0.13093 0.25034 0.13347 0.24479 0.12861 C 0.24132 0.12167 0.23559 0.11936 0.23177 0.11288 C 0.22777 0.10617 0.22448 0.09738 0.22239 0.08929 C 0.22205 0.05644 0.22187 0.02336 0.22118 -0.00949 C 0.221 -0.01897 0.21614 -0.03146 0.20937 -0.03447 C 0.19392 -0.04835 0.20521 -0.04095 0.1717 -0.03933 C 0.171 -0.03771 0.17048 -0.03563 0.16944 -0.03447 C 0.16857 -0.03331 0.16666 -0.03424 0.16597 -0.03285 C 0.16458 -0.03031 0.16475 -0.02637 0.16354 -0.0236 C 0.15937 -0.01458 0.15972 -0.00278 0.15295 0.003 C 0.15156 0.00856 0.15069 0.01226 0.14826 0.01712 C 0.14635 0.02475 0.14375 0.03007 0.13889 0.03446 C 0.13541 0.04742 0.12343 0.05528 0.11406 0.05945 C 0.10642 0.06269 0.1092 0.06199 0.10347 0.0643 C 0.10225 0.06477 0.1 0.06569 0.1 0.06569 C 0.07396 0.0643 0.07569 0.065 0.05764 0.05806 C 0.05208 0.05297 0.04583 0.04904 0.0401 0.04395 C 0.03889 0.04279 0.03767 0.04187 0.03646 0.04071 C 0.03524 0.03955 0.0342 0.03863 0.03298 0.03747 C 0.03177 0.03655 0.02951 0.03446 0.02951 0.03446 C 0.025 0.02591 0.02951 0.03261 0.02361 0.02822 C 0.02118 0.02637 0.01649 0.02197 0.01649 0.02197 C 0.01319 0.00856 0.01823 0.02429 0.0118 0.01573 C 0.00573 0.00763 0.01614 0.01318 0.00712 0.00948 C -0.000699999999999999 0.00254 -8.33333E-007 0.00694 -8.33333E-007 -1.13347E-006 Z">
                                      <p:cBhvr>
                                        <p:cTn id="22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" nodeType="afterEffect" fill="hold" presetClass="path" presetID="5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5417 -0.10063 L 0.25417 -0.05066 C 0.25417 -0.02799 0.23403 -0.0007 0.21684 -0.0007 L 0.17951 -0.0007 E">
                                      <p:cBhvr>
                                        <p:cTn id="3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7" nodeType="after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7916 3.62248E-006 L -0.00417 -0.0007 E">
                                      <p:cBhvr>
                                        <p:cTn id="3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66400" y="1295280"/>
            <a:ext cx="5600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General System Diagram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1828800"/>
          <a:ext cx="6019920" cy="494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828800"/>
                    <a:ext cx="601992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2514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Inside the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Black Box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819520" y="1523880"/>
          <a:ext cx="6324480" cy="357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523880"/>
                    <a:ext cx="632448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2895480"/>
          <a:ext cx="426708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895480"/>
                    <a:ext cx="426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18680" y="1218960"/>
            <a:ext cx="3924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Wiring Diagram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3520" y="1905120"/>
          <a:ext cx="8076960" cy="47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05120"/>
                    <a:ext cx="807696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266760" y="1295280"/>
            <a:ext cx="560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Desig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981080"/>
            <a:ext cx="853416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User-Friendly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Easily reprogramm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CMUCam requires strict environment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P03 has hardware design f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Lose track of subject too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21932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Project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48"/>
                </a:solidFill>
                <a:latin typeface="Arial"/>
              </a:rPr>
              <a:t>Develop a system that utilizes the CMUcam as the main component.</a:t>
            </a: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3880" y="5334120"/>
            <a:ext cx="5790960" cy="1463400"/>
            <a:chOff x="1523880" y="5334120"/>
            <a:chExt cx="5790960" cy="1463400"/>
          </a:xfrm>
        </p:grpSpPr>
        <p:pic>
          <p:nvPicPr>
            <p:cNvPr id="88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486040" y="5334120"/>
              <a:ext cx="1828800" cy="1463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9" name=""/>
            <p:cNvGraphicFramePr/>
            <p:nvPr/>
          </p:nvGraphicFramePr>
          <p:xfrm>
            <a:off x="1523880" y="5352840"/>
            <a:ext cx="1752480" cy="1444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3880" y="5352840"/>
                      <a:ext cx="1752480" cy="14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1" name=""/>
            <p:cNvGrpSpPr/>
            <p:nvPr/>
          </p:nvGrpSpPr>
          <p:grpSpPr>
            <a:xfrm>
              <a:off x="3352680" y="5349600"/>
              <a:ext cx="2057040" cy="1447560"/>
              <a:chOff x="3352680" y="5349600"/>
              <a:chExt cx="2057040" cy="1447560"/>
            </a:xfrm>
          </p:grpSpPr>
          <p:pic>
            <p:nvPicPr>
              <p:cNvPr id="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52680" y="5349600"/>
                <a:ext cx="97992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30160" y="5349600"/>
                <a:ext cx="9795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0160" y="6121080"/>
                <a:ext cx="979560" cy="67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2680" y="6111360"/>
                <a:ext cx="979920" cy="685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0" y="3048120"/>
            <a:ext cx="8915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CMUca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8"/>
                </a:solidFill>
                <a:latin typeface="Arial"/>
              </a:rPr>
              <a:t>Integrated vis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8"/>
                </a:solidFill>
                <a:latin typeface="Arial"/>
              </a:rPr>
              <a:t>Track position, shape, and size of an object based on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8"/>
                </a:solidFill>
                <a:latin typeface="Arial"/>
              </a:rPr>
              <a:t>Measure color statistics of a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8"/>
                </a:solidFill>
                <a:latin typeface="Arial"/>
              </a:rPr>
              <a:t>Transfer image via serial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4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Iterative Development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1"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1" marL="858960" indent="-479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8"/>
                </a:solidFill>
                <a:latin typeface="Arial"/>
              </a:rPr>
              <a:t>Each iteration should contain design, implementation, and testing</a:t>
            </a:r>
            <a:endParaRPr b="1" i="1" lang="en-US" sz="2000" spc="-1" strike="noStrike">
              <a:solidFill>
                <a:srgbClr val="000048"/>
              </a:solidFill>
              <a:latin typeface="Arial"/>
            </a:endParaRPr>
          </a:p>
          <a:p>
            <a:pPr marL="54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274320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  <a:ea typeface="Times New Roman"/>
              </a:rPr>
              <a:t>Labor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48"/>
                </a:solidFill>
                <a:latin typeface="Arial"/>
              </a:rPr>
              <a:t>Hardware Design T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8"/>
                </a:solidFill>
                <a:latin typeface="Arial"/>
              </a:rPr>
              <a:t>Mechanical and Electrical Hardware Creation, Modification, and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Bill Schro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Katharine McC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48"/>
                </a:solidFill>
                <a:latin typeface="Arial"/>
              </a:rPr>
              <a:t>Software Design T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8"/>
                </a:solidFill>
                <a:latin typeface="Arial"/>
              </a:rPr>
              <a:t>System Program Design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Brian Camp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Allis Kenn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96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Hardware Roadmap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280" y="1914480"/>
          <a:ext cx="7925040" cy="364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14480"/>
                    <a:ext cx="792504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00200"/>
            <a:ext cx="796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54400" indent="-55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Software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30040" y="2135160"/>
          <a:ext cx="8391600" cy="267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040" y="2135160"/>
                    <a:ext cx="839160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810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Multiple Users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Self-Calibration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More Image Processing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Long-Term Data &amp; User Information Storage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724280" y="4952880"/>
          <a:ext cx="1828800" cy="17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4952880"/>
                    <a:ext cx="18288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1874880" cy="1752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2550960" y="4952880"/>
            <a:ext cx="1874880" cy="1739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255760" y="5595840"/>
            <a:ext cx="295200" cy="322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29080" y="5651640"/>
            <a:ext cx="295200" cy="3204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58000" y="4952880"/>
          <a:ext cx="2133720" cy="175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952880"/>
                    <a:ext cx="21337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553080" y="5638680"/>
            <a:ext cx="295560" cy="320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Johnny Five"/>
          <p:cNvPicPr/>
          <p:nvPr/>
        </p:nvPicPr>
        <p:blipFill>
          <a:blip r:embed="rId8"/>
          <a:stretch/>
        </p:blipFill>
        <p:spPr>
          <a:xfrm>
            <a:off x="7315200" y="990720"/>
            <a:ext cx="1638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09680" y="1295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8"/>
                </a:solidFill>
                <a:latin typeface="Times New Roman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pic>
        <p:nvPicPr>
          <p:cNvPr id="218" name="allis2" descr=""/>
          <p:cNvPicPr/>
          <p:nvPr/>
        </p:nvPicPr>
        <p:blipFill>
          <a:blip r:embed="rId2"/>
          <a:stretch/>
        </p:blipFill>
        <p:spPr>
          <a:xfrm>
            <a:off x="304920" y="2733840"/>
            <a:ext cx="1928520" cy="2117520"/>
          </a:xfrm>
          <a:prstGeom prst="rect">
            <a:avLst/>
          </a:prstGeom>
          <a:ln w="0">
            <a:noFill/>
          </a:ln>
        </p:spPr>
      </p:pic>
      <p:pic>
        <p:nvPicPr>
          <p:cNvPr id="219" name="bill2" descr=""/>
          <p:cNvPicPr/>
          <p:nvPr/>
        </p:nvPicPr>
        <p:blipFill>
          <a:blip r:embed="rId3"/>
          <a:stretch/>
        </p:blipFill>
        <p:spPr>
          <a:xfrm>
            <a:off x="2362320" y="4175280"/>
            <a:ext cx="1917720" cy="2265120"/>
          </a:xfrm>
          <a:prstGeom prst="rect">
            <a:avLst/>
          </a:prstGeom>
          <a:ln w="0">
            <a:noFill/>
          </a:ln>
        </p:spPr>
      </p:pic>
      <p:pic>
        <p:nvPicPr>
          <p:cNvPr id="220" name="brian2" descr=""/>
          <p:cNvPicPr/>
          <p:nvPr/>
        </p:nvPicPr>
        <p:blipFill>
          <a:blip r:embed="rId4"/>
          <a:stretch/>
        </p:blipFill>
        <p:spPr>
          <a:xfrm>
            <a:off x="7010280" y="2459160"/>
            <a:ext cx="1886040" cy="2666880"/>
          </a:xfrm>
          <a:prstGeom prst="rect">
            <a:avLst/>
          </a:prstGeom>
          <a:ln w="0">
            <a:noFill/>
          </a:ln>
        </p:spPr>
      </p:pic>
      <p:pic>
        <p:nvPicPr>
          <p:cNvPr id="221" name="kat2" descr=""/>
          <p:cNvPicPr/>
          <p:nvPr/>
        </p:nvPicPr>
        <p:blipFill>
          <a:blip r:embed="rId5"/>
          <a:stretch/>
        </p:blipFill>
        <p:spPr>
          <a:xfrm>
            <a:off x="4724280" y="4267080"/>
            <a:ext cx="19414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71320" y="13712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ystem Purpose Statement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48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48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The purpose of IRIS is to restrict access and then perform surveillance on a person who has entered the secured area. The goal of the surveillance is to generate data for ergonomic studies of the secured area.  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4038480"/>
            <a:ext cx="8001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Paten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Few Automated Security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No Automated Ergonom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1932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Erg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8"/>
                </a:solidFill>
                <a:latin typeface="Arial"/>
              </a:rPr>
              <a:t>Application of scientific information concerning humans to the design of objects, systems, and environment for human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8"/>
                </a:solidFill>
                <a:latin typeface="Arial"/>
              </a:rPr>
              <a:t>Can help to create safer and more productive      working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0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Completed Objectives </a:t>
            </a: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marL="60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1" marL="952200" indent="-53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Detect change in scene indicating entry of subject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64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8"/>
              </a:solidFill>
              <a:latin typeface="Arial"/>
            </a:endParaRPr>
          </a:p>
          <a:p>
            <a:pPr lvl="1" marL="952200" indent="-53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Identify the correct pass key sequence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64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8"/>
              </a:solidFill>
              <a:latin typeface="Arial"/>
            </a:endParaRPr>
          </a:p>
          <a:p>
            <a:pPr lvl="1" marL="952200" indent="-53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Alert the subject if it has passed/failed identification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64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8"/>
              </a:solidFill>
              <a:latin typeface="Arial"/>
            </a:endParaRPr>
          </a:p>
          <a:p>
            <a:pPr lvl="1" marL="952200" indent="-53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Track the subject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64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8"/>
              </a:solidFill>
              <a:latin typeface="Arial"/>
            </a:endParaRPr>
          </a:p>
          <a:p>
            <a:pPr lvl="1" marL="952200" indent="-53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Record real-time data about movement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1" marL="95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1" marL="952200" indent="-53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Display a data summary to the subject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ubject enter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CMUcam detects change in the frame col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ystem prompts subject for pass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SP03 says ‘Display First Car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‘</a:t>
            </a: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Display Card’ LED 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Arial"/>
              </a:rPr>
              <a:t>Detect Change in Sc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71320" y="22096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ubject has been detected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Subject places colored cards in order into the card holder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8"/>
                </a:solidFill>
                <a:latin typeface="Arial"/>
              </a:rPr>
              <a:t>Subject waits for SP03 prompt to continue</a:t>
            </a:r>
            <a:endParaRPr b="1" i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Display Next Card’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Arial"/>
              </a:rPr>
              <a:t>Identify Pass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ubject has entered a pass key</a:t>
            </a:r>
            <a:endParaRPr b="1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Software determines a Pass/Fail</a:t>
            </a:r>
            <a:endParaRPr b="1" i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Subject passes</a:t>
            </a:r>
            <a:endParaRPr b="1" i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P03 acknowledges a valid user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Access Granted’ LED lights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ubject is allowed into secured area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Subject fails</a:t>
            </a:r>
            <a:endParaRPr b="1" i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P03 prompts subject to leave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Access Denied’ LED lights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ubject denied access to secured area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Arial"/>
              </a:rPr>
              <a:t>Alert the Su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2819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CMUcam follows subject around area</a:t>
            </a:r>
            <a:endParaRPr b="1" i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8"/>
                </a:solidFill>
                <a:latin typeface="Arial"/>
              </a:rPr>
              <a:t>SP03 alerts if subject has been lost</a:t>
            </a:r>
            <a:endParaRPr b="1" i="1" lang="en-US" sz="28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Begin a scan of the room for the subject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ubject Still Lost?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Assume subject left - Secure area – Restart system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8"/>
                </a:solidFill>
                <a:latin typeface="Arial"/>
              </a:rPr>
              <a:t>Subject Found?</a:t>
            </a:r>
            <a:endParaRPr b="1" lang="en-US" sz="24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67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8"/>
                </a:solidFill>
                <a:latin typeface="Arial"/>
              </a:rPr>
              <a:t>Continue tracking as normal</a:t>
            </a:r>
            <a:endParaRPr b="1" lang="en-US" sz="20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Impact"/>
              </a:rPr>
              <a:t>I.R.I.S.   -   Project Review</a:t>
            </a:r>
            <a:endParaRPr b="0" lang="en-US" sz="4400" spc="-1" strike="noStrike">
              <a:solidFill>
                <a:srgbClr val="000048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Arial"/>
              </a:rPr>
              <a:t>Track the Su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0320" y="1994040"/>
            <a:ext cx="749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8"/>
                </a:solidFill>
                <a:latin typeface="Arial"/>
              </a:rPr>
              <a:t>Subject puts on ‘lab coat’ and begin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8T21:18:34Z</dcterms:created>
  <dc:creator/>
  <dc:description/>
  <dc:language>en-US</dc:language>
  <cp:lastModifiedBy>campbeb</cp:lastModifiedBy>
  <dcterms:modified xsi:type="dcterms:W3CDTF">2003-04-23T15:29:40Z</dcterms:modified>
  <cp:revision>91</cp:revision>
  <dc:subject/>
  <dc:title>Mosaic Blue Gray</dc:title>
</cp:coreProperties>
</file>